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7D6-FEC1-4CA1-9905-83AD409B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806-5167-4BBA-AEB2-65F3D024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7B0-22B0-448D-96D0-B0871B30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099-F474-4521-8E5A-ACBD1FFB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75B-13FD-42FE-8180-3682D39E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3F7-EF1D-4E63-B062-9F683B2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513-B92F-4273-B465-30ED5C0C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72C-5FE7-456D-82EA-9A33A7F1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0FD-5A70-4312-9A2A-29EDB17F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DAC-0C01-4CA1-A530-C5D04A0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D38-6008-42F9-8B80-434C6751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537-F9BB-4A25-9155-0A9A612B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7AC1-A213-4563-A18F-7A0A7D50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rth Korean nuclear thr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ke Crem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ke Block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Korea acquired nuclear weapons in 195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rent leader is Kim Jong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Korea dropped out of the U.N on may 16,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n 1959, North Korea and the Soviet Union signed a treaty on the use of nuclear energy that included a provision for the Soviet Union to create nuclear factories in North Ko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38880" y="39625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Korea is located just below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threatening neighboring countries with nuclear war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laim to have nuclear weapon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tested two nuclear weapons and are trying to test a th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uranium with the estimated four million tons of exploitable   high-quality uranium or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to solve th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27432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2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Go to wa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38:28Z</dcterms:created>
  <dc:creator>ws13149</dc:creator>
  <dc:description/>
  <dc:language>en-US</dc:language>
  <cp:lastModifiedBy>ws13127</cp:lastModifiedBy>
  <dcterms:modified xsi:type="dcterms:W3CDTF">2010-05-21T13:42:33Z</dcterms:modified>
  <cp:revision>12</cp:revision>
  <dc:subject/>
  <dc:title>North Korean nuclear threat</dc:title>
</cp:coreProperties>
</file>